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B22-54B8-4BC3-9D63-5435327E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8A5-2272-4D5A-BE8A-78D77CE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408-C91F-41AD-A3FF-0685DE5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CC4-C0A1-4FEF-B80A-D7549402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E35-F849-4194-85FA-8756EE80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753D-F669-4686-8F1B-E57D55D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D13-70DC-4947-9D7B-10558E1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E20-FA7E-41B4-BDB6-7BEF7347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2A24-0BB6-420F-A60F-D7F0DCC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7F0-E970-4790-9CE6-2C921140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3942-A93C-4563-988C-4F2F21D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ECA-7236-4E7A-9F8C-B9B18AB8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B638-73D0-4A69-ACED-FAF49AC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EEC-8146-4CB8-BF4B-E6A16D2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373-7A62-4CE0-BC42-4DE37B19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40B-1937-486D-AB5A-CA4C52EB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464-1746-492C-85B5-CAD9C548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5B2-4422-469F-829A-186115B0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DD4-ED01-4FC5-89F6-764BA8E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6E1-F8EC-427B-ACAD-3E9BCA2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87B-EB3A-4E9F-BDEA-715801B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143-3085-4B41-9CC7-13C8CC7A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10E-6ED6-4AD1-87BC-E63D8B5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F12-41EE-4D16-909F-C9321BB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AB6-F63B-45F8-9BF7-AFE077D2D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32B3-7796-4F57-8201-D724CE9F6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sa.colorado.edu/summarystreet/texts/hydropower.htm" TargetMode="External"/><Relationship Id="rId2" Type="http://schemas.openxmlformats.org/officeDocument/2006/relationships/hyperlink" Target="http://ga.water.usgs.gov/edu/hyhowworks.html" TargetMode="External"/><Relationship Id="rId3" Type="http://schemas.openxmlformats.org/officeDocument/2006/relationships/hyperlink" Target="http://www1.agric.gov.ab.ca/$department/deptdocs.nsf/all/eng4431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0281800">
            <a:off x="2054160" y="1371600"/>
            <a:ext cx="60199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ydroelectric 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6576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733920"/>
            <a:ext cx="5943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ffanie Thorn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droelectric Power Diagra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Animation of a hydroelectric power plant in a dam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ydro plant uses the force of falling water to make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hydro plant is a system with three pa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pl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the electricity is produc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can be opened or closed to control water fl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o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water can be sto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it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get water from electric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source is used to turn a propeller piece called a turb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turns a metal shaft called the electric gener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called the motor which produces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enerator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Drawing of a turbine, which the water turns. "/>
          <p:cNvPicPr/>
          <p:nvPr/>
        </p:nvPicPr>
        <p:blipFill>
          <a:blip r:embed="rId1"/>
          <a:stretch/>
        </p:blipFill>
        <p:spPr>
          <a:xfrm>
            <a:off x="1066680" y="1442880"/>
            <a:ext cx="74678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the Generator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aulic turbine converts the energy of flowing water into mechanical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ydroelectric generator converts this mechanical energy into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st effects/ Environmental effect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ic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to de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apital cost but maintenance costs are only minim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Eff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 over fossil fueled generator pl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ewab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lsa.colorado.edu/summarystreet/texts/hydropowe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ga.water.usgs.gov/edu/hyhowwork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1.agric.gov.ab.ca/$department/deptdocs.nsf/all/eng44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4:54:26Z</dcterms:created>
  <dc:creator>tthornto</dc:creator>
  <dc:description/>
  <dc:language>en-US</dc:language>
  <cp:lastModifiedBy>tthornto</cp:lastModifiedBy>
  <dcterms:modified xsi:type="dcterms:W3CDTF">2009-12-30T16:07:49Z</dcterms:modified>
  <cp:revision>2</cp:revision>
  <dc:subject/>
  <dc:title>Slide 1</dc:title>
</cp:coreProperties>
</file>